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E5E61-E0CE-40F9-A094-18ADD97EB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2EF11-BFA4-4221-98E7-7CD348CE9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9C427-C4B1-409F-A66D-FDFD70AD1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6D71B-6391-4697-8016-E790FB082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88E45-26A1-4D55-B769-7E4B04D96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25290-CE8C-4C93-A94E-84CD83E2E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6E9C6-5D2C-45F0-8D45-9B83B69B4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E1139-DCCB-4A62-A384-9A7EDAC4C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B66E7-4CD9-4C7C-9962-4EAD35CBB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A61AD-FF0B-4E5C-A308-6BFD89462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55473-D3E0-411F-946E-8C177FB6F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7A0FF-4FD1-4F0B-9815-CC57BAA40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CABB8-0134-4CAF-BD87-F5F74AECD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A7295-4FB9-4BA1-8984-36048E5ED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11522-654A-48D9-963D-971F1CE46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DFD75-A99A-4597-8F95-2629B6FCD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DAF20-E3CA-4AC3-8B2C-B246CE09F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D2EB448-1EF4-4861-882A-F8CE5390AE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3A936D-922B-4431-8391-3D37C27E0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A4BB166-1726-4C4E-AD52-64C48B69BD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E22078-FA2C-41EC-896D-BAB261027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3C59E27-0CD8-4897-9FE2-F80F53CA6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ACBC9-9CE3-4783-88EE-ABD3504E5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3924A26-A968-48BD-B8F6-F812F04C8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E294A3-3588-4F2C-8249-CEF56413A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D892C7-3D6E-40BD-9B0E-5BEBD9C53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2B3A74-E9C2-43CF-BDA5-773335769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A5FF8D6-9D6C-4958-BC52-7A0A9BAE8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8E9D530-4FB2-4609-AD58-7913E59EF0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936FBF7-B850-4E66-9FB3-760D9516B1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B11548-929C-49F7-86E1-45D48A74A0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27371D-C02B-4EF0-98C7-057AD1D51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7C800-92F3-4365-9685-9C16F53CF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5B06C-E8BB-4D32-B559-8F04796F4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440B5-3C30-4EF4-AEBC-BD02F281F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BEB4C8-9FE0-4D76-B4A7-4287CF533A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982B3-104D-41C3-B972-277CAE27B4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62AEF-9AAA-433C-BF50-A1B0D7E7E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FF4CE7-CF40-49A8-B36E-F1D242765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3693E9-6D8B-45DD-BF80-A338F3F39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B2D74-4C78-46B4-A9EE-B15B5A4B20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26FEBF-298E-4322-A436-AA60B2F248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B3AD63-E736-4BA2-B43F-BF06AF8259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AA1B9BE-A46E-4C73-A250-07B446E7D6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45412-D924-4C60-870A-BC7B7D50F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CC74DAC-3D1B-4915-A692-74A0BAE7F7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D18AE8-09BD-4B14-A0AB-694AA9042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1CDE7D-1082-44EB-8590-BFAF800C0E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823AD0B-B20A-4A81-A577-0CABE4024C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2AAFC3-6A4D-42A5-A506-7F2EA5760A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655E77-A7D6-4CBE-B3C5-C2BEAE9EBC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E27757-1614-497F-BE48-F8F2F0F77E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4FC60E-3438-4FDC-AE9B-9BB708A21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62FDA1-80E3-4B61-8F79-779F006AC1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4F68F28-FEC1-4479-9AA3-A2CF310073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85F79-888D-4FC4-9D83-22AA421C3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2C50FB5-6A38-46D6-BAB6-6F2BB4D6F4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AACFB42-E4D8-46FC-B670-6DC7F7B8E3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3C56DDA-0CAB-4764-AAA1-A66D5E86C3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2C3D5D0-A7DC-420E-BDA4-825C5A9FE6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D477F8C-28D8-4A3D-91E0-9C4079E784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5A149B3-FB9C-4B15-8D2D-82AABAD251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1FFB3F4-C32E-4B79-B51C-4736936F68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466F350-CD03-4692-A451-0462FEFFD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083C00D-0B60-4890-95A0-1C745BAC5B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D00C804-0429-4C53-90F2-5C664BE20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1041-6534-491E-AFA8-C606E13E3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8E7DC1E-AB88-4F37-A5FA-232E5FC4E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FC0D6FF-E8A2-4505-A2B5-7B173BBB9E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B473AEB-5499-42EC-A9C9-2281A523DA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E6A73F5-8354-4235-8E9F-3673C79672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ADED3C5-9A0D-4124-B102-AE32B9DC23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6DEBBA0-44C9-40BB-AC54-28CB218563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0B00774-B30A-4860-AB13-7EB1817C7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CB96A03-149D-473A-B395-70AACE2807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A7F767-833A-49AC-B43E-9F0945CDB1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D1FB1D3-C1D8-4AA4-A75A-74ACD4FE0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E638E-6A87-4A44-84D3-37888891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96E0161-D692-46B5-B695-F972C3EA1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5CF183-E18B-498E-8C93-85D1E023CB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1D7D92C-FFDB-482B-8B48-012437340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FBFF61F-A131-41A7-B00D-A0D38482AA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50A271F-BD0B-43C1-9155-B47BE9340E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AF005-FE76-4E36-BCD3-833DCB41E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D523-EDE5-459F-9459-898F4C58F5D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87A1-AB57-47E2-9912-178552D844F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D1E8-C6EC-4EFD-B4D1-FBEAE99FE85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ambria"/>
              </a:rPr>
              <a:t>Click to edit the title text format</a:t>
            </a:r>
            <a:endParaRPr b="0" lang="en-US" sz="3000" spc="-1" strike="noStrike">
              <a:solidFill>
                <a:srgbClr val="fff39d"/>
              </a:solidFill>
              <a:latin typeface="Cambr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A380-1DFC-461F-8ADE-337F57BAB64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2130-72EB-4F91-BE4A-B68A5EE124B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9B89-FE75-4A46-953E-B14FF1191E6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EED1-A73F-4CC5-8BAD-2719314C2C2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mag-ciner.iespana.es/carteles/R/images/RECUERDA%20-%20Spellbound%20-%201945.jpg" TargetMode="External"/><Relationship Id="rId2" Type="http://schemas.openxmlformats.org/officeDocument/2006/relationships/hyperlink" Target="http://dreamers.com/indices/imagenes/peliculas.872.IMAGEN1.jpg" TargetMode="External"/><Relationship Id="rId3" Type="http://schemas.openxmlformats.org/officeDocument/2006/relationships/hyperlink" Target="http://images.google.es/imgres?imgurl=http://pics.filmaffinity.com/La_estrategia_de_la_arana-711969413-large.jpg&amp;imgrefurl=http://www.filmaffinity.com/es/film152514.html&amp;usg=__DgnjLSM0cx3pEVzG7tmzJWnchs4=&amp;h=400&amp;w=300&amp;sz=33&amp;hl=es&amp;start=1&amp;um=1&amp;itbs=1&amp;tbnid=s" TargetMode="External"/><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jhbayo.com/egipto/fotos/Templos%20de%20Luxor%20Tebas%20y%20Karnak%20Egipto.jpg"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7/79/Oedipus_at_Colonus.jpg" TargetMode="External"/><Relationship Id="rId2" Type="http://schemas.openxmlformats.org/officeDocument/2006/relationships/hyperlink" Target="http://upload.wikimedia.org/wikipedia/commons/6/69/Odysseus_Tiresias_Cdm_Paris_422_n2.jpg" TargetMode="External"/><Relationship Id="rId3" Type="http://schemas.openxmlformats.org/officeDocument/2006/relationships/image" Target="../media/image2.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lookandlearn.com/blog/images/A000231.jpg"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2.bp.blogspot.com/_ZBM6PxozfLs/SA0_QVeRzNI/AAAAAAAAACM/lpv1tbk-jXg/s320/edipoantigona%5B1%5D.jpg"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poesiadelmomento.com/luminarias/mitos/52pic.jpg"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volny.cz/satrapa1/satrapa1/mapas/corinto.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555640" y="162828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575f6d"/>
                </a:solidFill>
                <a:latin typeface="Cooper Black"/>
              </a:rPr>
              <a:t>EDIPO REY</a:t>
            </a:r>
            <a:endParaRPr b="0" lang="en-US" sz="7200" spc="-1" strike="noStrike">
              <a:solidFill>
                <a:srgbClr val="575f6d"/>
              </a:solidFill>
              <a:latin typeface="Cambria"/>
            </a:endParaRPr>
          </a:p>
        </p:txBody>
      </p:sp>
      <p:sp>
        <p:nvSpPr>
          <p:cNvPr id="352" name="PlaceHolder 2"/>
          <p:cNvSpPr>
            <a:spLocks noGrp="1"/>
          </p:cNvSpPr>
          <p:nvPr>
            <p:ph type="subTitle"/>
          </p:nvPr>
        </p:nvSpPr>
        <p:spPr>
          <a:xfrm>
            <a:off x="2626920" y="558972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alibri"/>
              </a:rPr>
              <a:t>Alumna: Marta Gómez Dupla</a:t>
            </a:r>
            <a:br>
              <a:rPr sz="1800"/>
            </a:br>
            <a:r>
              <a:rPr b="1" lang="es-ES" sz="1800" spc="-1" strike="noStrike">
                <a:solidFill>
                  <a:srgbClr val="575f6d"/>
                </a:solidFill>
                <a:latin typeface="Calibri"/>
              </a:rPr>
              <a:t>Curso: 2º BATX-A</a:t>
            </a:r>
            <a:br>
              <a:rPr sz="1800"/>
            </a:br>
            <a:r>
              <a:rPr b="1" lang="es-ES" sz="1800" spc="-1" strike="noStrike">
                <a:solidFill>
                  <a:srgbClr val="575f6d"/>
                </a:solidFill>
                <a:latin typeface="Calibri"/>
              </a:rPr>
              <a:t>Profesora: Mª Teresa</a:t>
            </a:r>
            <a:endParaRPr b="0" lang="en-US" sz="18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EDIPO COMO REFERENTE EN EL CINE</a:t>
            </a:r>
            <a:endParaRPr b="0" lang="en-US" sz="3000" spc="-1" strike="noStrike">
              <a:solidFill>
                <a:srgbClr val="575f6d"/>
              </a:solidFill>
              <a:latin typeface="Cambria"/>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d2611c"/>
                </a:solidFill>
                <a:uFillTx/>
                <a:latin typeface="Calibri"/>
                <a:hlinkClick r:id="rId1"/>
              </a:rPr>
              <a:t>Recuerda</a:t>
            </a:r>
            <a:r>
              <a:rPr b="0" lang="es-ES" sz="2400" spc="-1" strike="noStrike">
                <a:solidFill>
                  <a:srgbClr val="000000"/>
                </a:solidFill>
                <a:latin typeface="Calibri"/>
              </a:rPr>
              <a:t> (1945) </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nie, </a:t>
            </a:r>
            <a:r>
              <a:rPr b="0" lang="es-ES" sz="2400" spc="-1" strike="noStrike" u="sng">
                <a:solidFill>
                  <a:srgbClr val="d2611c"/>
                </a:solidFill>
                <a:uFillTx/>
                <a:latin typeface="Calibri"/>
                <a:hlinkClick r:id="rId2"/>
              </a:rPr>
              <a:t>la ladrona </a:t>
            </a:r>
            <a:r>
              <a:rPr b="0" lang="es-ES" sz="2400" spc="-1" strike="noStrike">
                <a:solidFill>
                  <a:srgbClr val="000000"/>
                </a:solidFill>
                <a:latin typeface="Calibri"/>
              </a:rPr>
              <a:t>(1964)</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d2611c"/>
                </a:solidFill>
                <a:uFillTx/>
                <a:latin typeface="Calibri"/>
                <a:hlinkClick r:id="rId3"/>
              </a:rPr>
              <a:t>Estrategia de la araña </a:t>
            </a:r>
            <a:r>
              <a:rPr b="0" lang="es-ES" sz="2400" spc="-1" strike="noStrike">
                <a:solidFill>
                  <a:srgbClr val="000000"/>
                </a:solidFill>
                <a:latin typeface="Calibri"/>
              </a:rPr>
              <a:t>(1970)</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soportable levedad del ser (1988)</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safío total (1990)</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hica terrible (1990)</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aja de música (1990)</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mento (2000) </a:t>
            </a:r>
            <a:endParaRPr b="0" lang="en-US" sz="2400" spc="-1" strike="noStrike">
              <a:solidFill>
                <a:srgbClr val="000000"/>
              </a:solidFill>
              <a:latin typeface="Calibri"/>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INDICE</a:t>
            </a:r>
            <a:endParaRPr b="0" lang="en-US" sz="3000" spc="-1" strike="noStrike">
              <a:solidFill>
                <a:srgbClr val="575f6d"/>
              </a:solidFill>
              <a:latin typeface="Cambria"/>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este en Tebas.</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edicción de Tiresias.</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cusaciones contra Creonte.</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velaciones de Yocasta.</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ipo cuenta su historia.</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oticias de Corinto.</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olución.</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ipo como referente en el cine.</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PESTE EN TEBAS </a:t>
            </a:r>
            <a:endParaRPr b="0" lang="en-US" sz="3000" spc="-1" strike="noStrike">
              <a:solidFill>
                <a:srgbClr val="575f6d"/>
              </a:solidFill>
              <a:latin typeface="Cambria"/>
            </a:endParaRPr>
          </a:p>
        </p:txBody>
      </p:sp>
      <p:sp>
        <p:nvSpPr>
          <p:cNvPr id="356"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Después de muchos años de reinado en la ciudad de </a:t>
            </a:r>
            <a:r>
              <a:rPr b="0" lang="es-ES" sz="2400" spc="-1" strike="noStrike" u="sng">
                <a:solidFill>
                  <a:srgbClr val="d2611c"/>
                </a:solidFill>
                <a:uFillTx/>
                <a:latin typeface="Calibri"/>
                <a:hlinkClick r:id="rId1"/>
              </a:rPr>
              <a:t>Tebas,</a:t>
            </a:r>
            <a:r>
              <a:rPr b="0" lang="es-ES" sz="2400" spc="-1" strike="noStrike">
                <a:solidFill>
                  <a:srgbClr val="000000"/>
                </a:solidFill>
                <a:latin typeface="Calibri"/>
              </a:rPr>
              <a:t> y tras la muerte del rey Layo. La ciudad es sacudida por una fuerte enfermedad « la peste «. Edipo rey de Tebas tras resolver el enigma de la esfinge manda a Creonte para consultar el oráculo, el oráculo informa de que si no se encuentra el asesino del rey Layo la peste no desaparecerá de Tebas. Tras conocer la noticia Edipo inicia una fuerte búsqueda del asesino para acabar con esta terrible enfermedad. </a:t>
            </a:r>
            <a:endParaRPr b="0" lang="en-US" sz="2400" spc="-1" strike="noStrike">
              <a:solidFill>
                <a:srgbClr val="000000"/>
              </a:solidFill>
              <a:latin typeface="Calibri"/>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57" name="5 Imagen" descr=""/>
          <p:cNvPicPr/>
          <p:nvPr/>
        </p:nvPicPr>
        <p:blipFill>
          <a:blip r:embed="rId2"/>
          <a:stretch/>
        </p:blipFill>
        <p:spPr>
          <a:xfrm>
            <a:off x="3780000" y="4724280"/>
            <a:ext cx="3960720" cy="172908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PREDICCIÓN DE TIRESIAS </a:t>
            </a:r>
            <a:endParaRPr b="0" lang="en-US" sz="3000" spc="-1" strike="noStrike">
              <a:solidFill>
                <a:srgbClr val="575f6d"/>
              </a:solidFill>
              <a:latin typeface="Cambria"/>
            </a:endParaRPr>
          </a:p>
        </p:txBody>
      </p:sp>
      <p:sp>
        <p:nvSpPr>
          <p:cNvPr id="35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d2611c"/>
                </a:solidFill>
                <a:uFillTx/>
                <a:latin typeface="Calibri"/>
                <a:hlinkClick r:id="rId1"/>
              </a:rPr>
              <a:t>Edipo</a:t>
            </a:r>
            <a:r>
              <a:rPr b="0" lang="es-ES" sz="2400" spc="-1" strike="noStrike">
                <a:solidFill>
                  <a:srgbClr val="000000"/>
                </a:solidFill>
                <a:latin typeface="Calibri"/>
              </a:rPr>
              <a:t> y el pueblo tras anunciar la búsqueda del asesino del rey Layo, se dirigen a </a:t>
            </a:r>
            <a:r>
              <a:rPr b="0" lang="es-ES" sz="2400" spc="-1" strike="noStrike" u="sng">
                <a:solidFill>
                  <a:srgbClr val="d2611c"/>
                </a:solidFill>
                <a:uFillTx/>
                <a:latin typeface="Calibri"/>
                <a:hlinkClick r:id="rId2"/>
              </a:rPr>
              <a:t>Tiresias </a:t>
            </a:r>
            <a:r>
              <a:rPr b="0" lang="es-ES" sz="2400" spc="-1" strike="noStrike">
                <a:solidFill>
                  <a:srgbClr val="000000"/>
                </a:solidFill>
                <a:latin typeface="Calibri"/>
              </a:rPr>
              <a:t>para que el adivino lo aclare todo. Edipo tiene una fuerte discusión con el adivino porque lo implica directamente en el crimen del rey Layo. Edipo piensa que esa acusación se trata de una conspiración contra él.</a:t>
            </a:r>
            <a:endParaRPr b="0" lang="en-US" sz="2400" spc="-1" strike="noStrike">
              <a:solidFill>
                <a:srgbClr val="000000"/>
              </a:solidFill>
              <a:latin typeface="Calibri"/>
            </a:endParaRPr>
          </a:p>
        </p:txBody>
      </p:sp>
      <p:pic>
        <p:nvPicPr>
          <p:cNvPr id="360" name="3 Imagen" descr=""/>
          <p:cNvPicPr/>
          <p:nvPr/>
        </p:nvPicPr>
        <p:blipFill>
          <a:blip r:embed="rId3"/>
          <a:stretch/>
        </p:blipFill>
        <p:spPr>
          <a:xfrm>
            <a:off x="4716360" y="3716280"/>
            <a:ext cx="2270160" cy="2881440"/>
          </a:xfrm>
          <a:prstGeom prst="rect">
            <a:avLst/>
          </a:prstGeom>
          <a:ln w="0">
            <a:noFill/>
          </a:ln>
        </p:spPr>
      </p:pic>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ACUSACIONES CONTRA CREONTE</a:t>
            </a:r>
            <a:endParaRPr b="0" lang="en-US" sz="3000" spc="-1" strike="noStrike">
              <a:solidFill>
                <a:srgbClr val="575f6d"/>
              </a:solidFill>
              <a:latin typeface="Cambria"/>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ancianos del pueblo como </a:t>
            </a:r>
            <a:r>
              <a:rPr b="0" lang="es-ES" sz="2400" spc="-1" strike="noStrike" u="sng">
                <a:solidFill>
                  <a:srgbClr val="d2611c"/>
                </a:solidFill>
                <a:uFillTx/>
                <a:latin typeface="Calibri"/>
                <a:hlinkClick r:id="rId1"/>
              </a:rPr>
              <a:t>Creonte </a:t>
            </a:r>
            <a:r>
              <a:rPr b="0" lang="es-ES" sz="2400" spc="-1" strike="noStrike">
                <a:solidFill>
                  <a:srgbClr val="000000"/>
                </a:solidFill>
                <a:latin typeface="Calibri"/>
              </a:rPr>
              <a:t>empiezan a dudar del rey de Tebas tras haber consultado al adivino de Tiresias. Edipo piensa que esto son conspiraciones contra él para poder usurpar el trono, además Edipo piensa que no se puede acusar sin pruebas y que las cosas hay que demostrarlas.</a:t>
            </a:r>
            <a:endParaRPr b="0" lang="en-US" sz="2400" spc="-1" strike="noStrike">
              <a:solidFill>
                <a:srgbClr val="000000"/>
              </a:solidFill>
              <a:latin typeface="Calibri"/>
            </a:endParaRPr>
          </a:p>
        </p:txBody>
      </p:sp>
      <p:pic>
        <p:nvPicPr>
          <p:cNvPr id="363" name="3 Imagen" descr=""/>
          <p:cNvPicPr/>
          <p:nvPr/>
        </p:nvPicPr>
        <p:blipFill>
          <a:blip r:embed="rId2"/>
          <a:stretch/>
        </p:blipFill>
        <p:spPr>
          <a:xfrm>
            <a:off x="4932360" y="3645000"/>
            <a:ext cx="2303640" cy="303192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REVELACIONES DE YOCASTA</a:t>
            </a:r>
            <a:endParaRPr b="0" lang="en-US" sz="3000" spc="-1" strike="noStrike">
              <a:solidFill>
                <a:srgbClr val="575f6d"/>
              </a:solidFill>
              <a:latin typeface="Cambria"/>
            </a:endParaRPr>
          </a:p>
        </p:txBody>
      </p:sp>
      <p:sp>
        <p:nvSpPr>
          <p:cNvPr id="365" name=""/>
          <p:cNvSpPr txBox="1"/>
          <p:nvPr/>
        </p:nvSpPr>
        <p:spPr>
          <a:xfrm>
            <a:off x="468000" y="155736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d2611c"/>
                </a:solidFill>
                <a:uFillTx/>
                <a:latin typeface="Calibri"/>
                <a:hlinkClick r:id="rId1"/>
              </a:rPr>
              <a:t>Yocasta</a:t>
            </a:r>
            <a:r>
              <a:rPr b="0" lang="es-ES" sz="2400" spc="-1" strike="noStrike">
                <a:solidFill>
                  <a:srgbClr val="000000"/>
                </a:solidFill>
                <a:latin typeface="Calibri"/>
              </a:rPr>
              <a:t> interviene en la disputa entre Edipo y Creonte como mediadora. Argumenta diciendo que el oráculo dijo que Layo iba a ser asesinado por un hijo suyo y fue asesinado en un cruce de tres caminos, además al hijo que habían tenido se lo dieron a un hombre para que lo matara, aunque le dio pena y sólo lo abandonó. Por lo tanto no se había cumplido el oráculo anterior.</a:t>
            </a:r>
            <a:endParaRPr b="0" lang="en-US" sz="2400" spc="-1" strike="noStrike">
              <a:solidFill>
                <a:srgbClr val="000000"/>
              </a:solidFill>
              <a:latin typeface="Calibri"/>
            </a:endParaRPr>
          </a:p>
        </p:txBody>
      </p:sp>
      <p:pic>
        <p:nvPicPr>
          <p:cNvPr id="366" name="3 Imagen" descr=""/>
          <p:cNvPicPr/>
          <p:nvPr/>
        </p:nvPicPr>
        <p:blipFill>
          <a:blip r:embed="rId2"/>
          <a:stretch/>
        </p:blipFill>
        <p:spPr>
          <a:xfrm>
            <a:off x="6659640" y="4221000"/>
            <a:ext cx="1368360" cy="245124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EDIPO CUENTA SU HISTORIA</a:t>
            </a:r>
            <a:endParaRPr b="0" lang="en-US" sz="3000" spc="-1" strike="noStrike">
              <a:solidFill>
                <a:srgbClr val="575f6d"/>
              </a:solidFill>
              <a:latin typeface="Cambria"/>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ipo cuenta que el oráculo dijo que él mataría a su padre y se casaría con su madre por eso se marchó y durante el viaje hacia Tebas en un cruce de caminos mató a varias personas. Edipo piensa que él no fue el asesino de </a:t>
            </a:r>
            <a:r>
              <a:rPr b="0" lang="es-ES" sz="2400" spc="-1" strike="noStrike" u="sng">
                <a:solidFill>
                  <a:srgbClr val="d2611c"/>
                </a:solidFill>
                <a:uFillTx/>
                <a:latin typeface="Calibri"/>
                <a:hlinkClick r:id="rId1"/>
              </a:rPr>
              <a:t>Layo</a:t>
            </a:r>
            <a:r>
              <a:rPr b="0" lang="es-ES" sz="2400" spc="-1" strike="noStrike">
                <a:solidFill>
                  <a:srgbClr val="000000"/>
                </a:solidFill>
                <a:latin typeface="Calibri"/>
              </a:rPr>
              <a:t> porque dicen que cuando lo mataron había más de una persona.</a:t>
            </a:r>
            <a:endParaRPr b="0" lang="en-US" sz="2400" spc="-1" strike="noStrike">
              <a:solidFill>
                <a:srgbClr val="000000"/>
              </a:solidFill>
              <a:latin typeface="Calibri"/>
            </a:endParaRPr>
          </a:p>
        </p:txBody>
      </p:sp>
      <p:pic>
        <p:nvPicPr>
          <p:cNvPr id="369" name="3 Imagen" descr=""/>
          <p:cNvPicPr/>
          <p:nvPr/>
        </p:nvPicPr>
        <p:blipFill>
          <a:blip r:embed="rId2"/>
          <a:stretch/>
        </p:blipFill>
        <p:spPr>
          <a:xfrm>
            <a:off x="4572000" y="4149720"/>
            <a:ext cx="3313080" cy="2533680"/>
          </a:xfrm>
          <a:prstGeom prst="rect">
            <a:avLst/>
          </a:prstGeom>
          <a:ln w="0">
            <a:noFill/>
          </a:ln>
        </p:spPr>
      </p:pic>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NOTICIAS DE CORINTO</a:t>
            </a:r>
            <a:endParaRPr b="0" lang="en-US" sz="3000" spc="-1" strike="noStrike">
              <a:solidFill>
                <a:srgbClr val="575f6d"/>
              </a:solidFill>
              <a:latin typeface="Cambria"/>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mensajero llega a Tebas anunciando que Edipo iba a ser el nuevo rey de </a:t>
            </a:r>
            <a:r>
              <a:rPr b="0" lang="es-ES" sz="2400" spc="-1" strike="noStrike" u="sng">
                <a:solidFill>
                  <a:srgbClr val="d2611c"/>
                </a:solidFill>
                <a:uFillTx/>
                <a:latin typeface="Calibri"/>
                <a:hlinkClick r:id="rId1"/>
              </a:rPr>
              <a:t>Corinto.</a:t>
            </a:r>
            <a:endParaRPr b="0" lang="en-US" sz="2400" spc="-1" strike="noStrike">
              <a:solidFill>
                <a:srgbClr val="000000"/>
              </a:solidFill>
              <a:latin typeface="Calibri"/>
            </a:endParaRPr>
          </a:p>
        </p:txBody>
      </p:sp>
      <p:pic>
        <p:nvPicPr>
          <p:cNvPr id="372" name="3 Imagen" descr=""/>
          <p:cNvPicPr/>
          <p:nvPr/>
        </p:nvPicPr>
        <p:blipFill>
          <a:blip r:embed="rId2"/>
          <a:stretch/>
        </p:blipFill>
        <p:spPr>
          <a:xfrm>
            <a:off x="684360" y="2492280"/>
            <a:ext cx="3095640" cy="1960560"/>
          </a:xfrm>
          <a:prstGeom prst="rect">
            <a:avLst/>
          </a:prstGeom>
          <a:ln w="0">
            <a:noFill/>
          </a:ln>
        </p:spPr>
      </p:pic>
      <p:pic>
        <p:nvPicPr>
          <p:cNvPr id="373" name="4 Imagen" descr=""/>
          <p:cNvPicPr/>
          <p:nvPr/>
        </p:nvPicPr>
        <p:blipFill>
          <a:blip r:embed="rId3"/>
          <a:stretch/>
        </p:blipFill>
        <p:spPr>
          <a:xfrm>
            <a:off x="5003640" y="4437000"/>
            <a:ext cx="2664000" cy="234000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RESOLUCIÓN</a:t>
            </a:r>
            <a:endParaRPr b="0" lang="en-US" sz="3000" spc="-1" strike="noStrike">
              <a:solidFill>
                <a:srgbClr val="575f6d"/>
              </a:solidFill>
              <a:latin typeface="Cambria"/>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ipo comprende que Yocasta y Layo eran sus verdaderos padres y que el oráculo se había cumplido a la perfección .</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inalmente Edipo es desterrado de Tebas y pide a Creonte que se haga cargo de sus hijas.</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Yocasta como no podría soportar vivir sin Edipo decide quitarse la vida.</a:t>
            </a:r>
            <a:endParaRPr b="0" lang="en-US" sz="2400" spc="-1" strike="noStrike">
              <a:solidFill>
                <a:srgbClr val="000000"/>
              </a:solidFill>
              <a:latin typeface="Calibri"/>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4:38:01Z</dcterms:created>
  <dc:creator>Julio Muñoz Gaya</dc:creator>
  <dc:description/>
  <dc:language>en-US</dc:language>
  <cp:lastModifiedBy>Julio Muñoz Gaya</cp:lastModifiedBy>
  <dcterms:modified xsi:type="dcterms:W3CDTF">2010-04-18T17:52:42Z</dcterms:modified>
  <cp:revision>20</cp:revision>
  <dc:subject/>
  <dc:title>EDIPO REY</dc:title>
</cp:coreProperties>
</file>